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7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9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EB7-82AB-438D-8C7F-33DF7FF3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2C0-EE1E-453D-A99A-54AE8642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878-DE5A-4EBE-898A-C3ED0F40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098-F335-40C8-B07E-09244A8F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25B6-00E0-4F87-B6C4-D2FE6096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FBDE-07B2-4368-8F35-87F22404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2348-925D-4402-B2EA-497494F0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469F-2F0E-4D1B-B385-0FDBC73E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07DF-3994-43D2-94E5-74FFEBD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FBC5-7860-4C19-B39F-4590D77B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B52D-8E22-4948-8B6F-3CB2C429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E4F-CDB1-40D0-9616-EF7747A2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6024-12CE-45B1-B84A-4427A79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83C3-839C-41C6-8808-0C44445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EFAA-CF6D-4F9D-96CE-388C2F08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AF71-8649-4DB6-A1A8-FF7D8786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B0E3-D49A-4D83-8ED5-F23A59BD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86B15-023A-40AC-852A-7677DA74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2D9A3-DC7C-4420-824D-1BAEA7EE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94EAB-6907-467A-B13D-E076D7CA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DF17D-6BB5-4E3B-BC0A-BE3385B3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84F82-E8E1-445C-91B2-5B84AA22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BB4-9D80-42EA-BD80-DABDC685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768AE-069A-47D6-87C6-EB933904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8828D-E86D-4E31-B9FA-5E45ABE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84E66-9931-46D3-8C7E-95C0D81F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618F4-3947-4937-9F50-D1DD4971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6A512-7127-4851-B240-5E000C08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101EA-1691-4A53-81DB-231C32A6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8C519-578C-4666-A81A-8D83619F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EC04-0BBB-4167-9D52-1AF3FB0D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1215-7D2C-4687-AE66-935511BE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CBA2B-3AD9-47C4-A26F-04B08729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E6A-AAD4-4D27-8028-F7A4618D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B054-2260-4D58-A09A-F8310F0C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64CE-0A9D-4EAC-9C2C-01E42A4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317F-33E8-4D8F-AEAA-72FA31C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5EB9-E992-479B-80CC-12372A2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DB80-F9F3-4E8A-9BE5-A366234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7396-D974-435E-BAFA-2B9A28F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3770-3C9F-4BD3-BCBE-6E8BC2E0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3F232-D0CB-4DEA-A5F5-7CFFA084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55D8-7684-45F3-BB50-DB924598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654-7AF1-464D-B8E7-67F501FF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618-0770-450D-B465-B45287A7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475-7BD6-46BF-8617-D45EDD9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1D7-0C1E-4195-94C7-F9382FE1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546-212C-43F1-A430-F5B63A01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6AF1-2EC5-45D9-A134-F2382315F6F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0726-F84D-4468-AE90-9F11DB7A612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22C-1BC1-4A81-8F98-BBAA45F107E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1045-A5BD-4650-BAF5-113031F5DAA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Diagram 3" descr=""/>
          <p:cNvPicPr/>
          <p:nvPr/>
        </p:nvPicPr>
        <p:blipFill>
          <a:blip r:embed="rId1"/>
          <a:stretch/>
        </p:blipFill>
        <p:spPr>
          <a:xfrm>
            <a:off x="365040" y="146160"/>
            <a:ext cx="8340840" cy="1006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724280" y="1295280"/>
            <a:ext cx="4267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st 3 pieces of evidence to support the endosymbiont theor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half-life of carbon-14 is about 5600 years.  A fossil with ¼ the normal proportion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probably _______ years ol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320" y="129528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swer the following using the diagram below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a common ancestor for D &amp; F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most closely related speci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least related speci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new species C arises at this poi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common ancestor for E &amp; F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grpSp>
        <p:nvGrpSpPr>
          <p:cNvPr id="217" name="Group 28"/>
          <p:cNvGrpSpPr/>
          <p:nvPr/>
        </p:nvGrpSpPr>
        <p:grpSpPr>
          <a:xfrm>
            <a:off x="762120" y="2133720"/>
            <a:ext cx="3581280" cy="2514600"/>
            <a:chOff x="762120" y="2133720"/>
            <a:chExt cx="3581280" cy="2514600"/>
          </a:xfrm>
        </p:grpSpPr>
        <p:sp>
          <p:nvSpPr>
            <p:cNvPr id="218" name="Rectangle 25"/>
            <p:cNvSpPr/>
            <p:nvPr/>
          </p:nvSpPr>
          <p:spPr>
            <a:xfrm>
              <a:off x="762120" y="2133720"/>
              <a:ext cx="3581280" cy="2514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7"/>
            <p:cNvGrpSpPr/>
            <p:nvPr/>
          </p:nvGrpSpPr>
          <p:grpSpPr>
            <a:xfrm>
              <a:off x="990720" y="2438280"/>
              <a:ext cx="3066480" cy="2163240"/>
              <a:chOff x="990720" y="2438280"/>
              <a:chExt cx="3066480" cy="2163240"/>
            </a:xfrm>
          </p:grpSpPr>
          <p:sp>
            <p:nvSpPr>
              <p:cNvPr id="220" name="Straight Connector 9"/>
              <p:cNvSpPr/>
              <p:nvPr/>
            </p:nvSpPr>
            <p:spPr>
              <a:xfrm flipV="1">
                <a:off x="2457720" y="3992040"/>
                <a:ext cx="0" cy="609480"/>
              </a:xfrm>
              <a:prstGeom prst="line">
                <a:avLst/>
              </a:prstGeom>
              <a:ln w="5724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26"/>
              <p:cNvGrpSpPr/>
              <p:nvPr/>
            </p:nvGrpSpPr>
            <p:grpSpPr>
              <a:xfrm>
                <a:off x="990720" y="2438280"/>
                <a:ext cx="3066480" cy="1553400"/>
                <a:chOff x="990720" y="2438280"/>
                <a:chExt cx="3066480" cy="1553400"/>
              </a:xfrm>
            </p:grpSpPr>
            <p:sp>
              <p:nvSpPr>
                <p:cNvPr id="222" name="Straight Connector 10"/>
                <p:cNvSpPr/>
                <p:nvPr/>
              </p:nvSpPr>
              <p:spPr>
                <a:xfrm flipV="1">
                  <a:off x="2457360" y="3077640"/>
                  <a:ext cx="1599840" cy="91404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Straight Connector 15"/>
                <p:cNvSpPr/>
                <p:nvPr/>
              </p:nvSpPr>
              <p:spPr>
                <a:xfrm flipH="1" flipV="1">
                  <a:off x="990720" y="2590200"/>
                  <a:ext cx="1466640" cy="140148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Straight Connector 17"/>
                <p:cNvSpPr/>
                <p:nvPr/>
              </p:nvSpPr>
              <p:spPr>
                <a:xfrm flipH="1" flipV="1">
                  <a:off x="3371400" y="2772720"/>
                  <a:ext cx="152280" cy="60948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Straight Connector 19"/>
                <p:cNvSpPr/>
                <p:nvPr/>
              </p:nvSpPr>
              <p:spPr>
                <a:xfrm>
                  <a:off x="990720" y="3123720"/>
                  <a:ext cx="628560" cy="10620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Straight Connector 21"/>
                <p:cNvSpPr/>
                <p:nvPr/>
              </p:nvSpPr>
              <p:spPr>
                <a:xfrm flipV="1">
                  <a:off x="1466640" y="2467800"/>
                  <a:ext cx="685440" cy="60948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Straight Connector 23"/>
                <p:cNvSpPr/>
                <p:nvPr/>
              </p:nvSpPr>
              <p:spPr>
                <a:xfrm flipH="1" flipV="1">
                  <a:off x="1752120" y="2438280"/>
                  <a:ext cx="152280" cy="22824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" name="TextBox 29"/>
          <p:cNvSpPr/>
          <p:nvPr/>
        </p:nvSpPr>
        <p:spPr>
          <a:xfrm>
            <a:off x="91440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0"/>
          <p:cNvSpPr/>
          <p:nvPr/>
        </p:nvSpPr>
        <p:spPr>
          <a:xfrm>
            <a:off x="144792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1"/>
          <p:cNvSpPr/>
          <p:nvPr/>
        </p:nvSpPr>
        <p:spPr>
          <a:xfrm>
            <a:off x="21337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2"/>
          <p:cNvSpPr/>
          <p:nvPr/>
        </p:nvSpPr>
        <p:spPr>
          <a:xfrm>
            <a:off x="32004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3"/>
          <p:cNvSpPr/>
          <p:nvPr/>
        </p:nvSpPr>
        <p:spPr>
          <a:xfrm>
            <a:off x="39625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4"/>
          <p:cNvSpPr/>
          <p:nvPr/>
        </p:nvSpPr>
        <p:spPr>
          <a:xfrm>
            <a:off x="12952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5"/>
          <p:cNvSpPr/>
          <p:nvPr/>
        </p:nvSpPr>
        <p:spPr>
          <a:xfrm>
            <a:off x="1828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6"/>
          <p:cNvSpPr/>
          <p:nvPr/>
        </p:nvSpPr>
        <p:spPr>
          <a:xfrm>
            <a:off x="14479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7"/>
          <p:cNvSpPr/>
          <p:nvPr/>
        </p:nvSpPr>
        <p:spPr>
          <a:xfrm>
            <a:off x="25146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8"/>
          <p:cNvSpPr/>
          <p:nvPr/>
        </p:nvSpPr>
        <p:spPr>
          <a:xfrm>
            <a:off x="34290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9"/>
          <p:cNvSpPr/>
          <p:nvPr/>
        </p:nvSpPr>
        <p:spPr>
          <a:xfrm>
            <a:off x="76212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Diagram 3" descr=""/>
          <p:cNvPicPr/>
          <p:nvPr/>
        </p:nvPicPr>
        <p:blipFill>
          <a:blip r:embed="rId1"/>
          <a:stretch/>
        </p:blipFill>
        <p:spPr>
          <a:xfrm>
            <a:off x="384120" y="907920"/>
            <a:ext cx="8321760" cy="1092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533160" y="2305080"/>
            <a:ext cx="8001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dimentary rock (layers called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rat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eralized (hard body structur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c – rare in fossils but found in amber, frozen, tar pi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omplete record – many organisms not preserved, fossils destroyed, or not yet f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25_04_FossilTimeline-L.jpg"/>
          <p:cNvPicPr/>
          <p:nvPr/>
        </p:nvPicPr>
        <p:blipFill>
          <a:blip r:embed="rId1"/>
          <a:stretch/>
        </p:blipFill>
        <p:spPr>
          <a:xfrm>
            <a:off x="533520" y="44280"/>
            <a:ext cx="79246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Diagram 11" descr=""/>
          <p:cNvPicPr/>
          <p:nvPr/>
        </p:nvPicPr>
        <p:blipFill>
          <a:blip r:embed="rId1"/>
          <a:stretch/>
        </p:blipFill>
        <p:spPr>
          <a:xfrm>
            <a:off x="371520" y="1670040"/>
            <a:ext cx="8412120" cy="55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4041720" cy="76176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Georgia"/>
              </a:rPr>
              <a:t>Relative D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721040" y="762120"/>
            <a:ext cx="4041720" cy="76176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Georgia"/>
              </a:rPr>
              <a:t>Radiometric D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236196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s order of rock strata to determine relative age of fossi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717800" y="2361960"/>
            <a:ext cx="4273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sure decay of radioactive isotopes present in layers where fossils are f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# of years for 50% of original sample to dec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25_05_RadiometricDating-L.jpg"/>
          <p:cNvPicPr/>
          <p:nvPr/>
        </p:nvPicPr>
        <p:blipFill>
          <a:blip r:embed="rId1"/>
          <a:stretch/>
        </p:blipFill>
        <p:spPr>
          <a:xfrm>
            <a:off x="291960" y="127080"/>
            <a:ext cx="854712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3353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rebuchet MS"/>
              </a:rPr>
              <a:t>Geologic Time Scal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1676520"/>
            <a:ext cx="3429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Er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rio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Epoch (longest to shortes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resent Da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Phanerozoic Eon, Cenozoic Era, Quaternary Period, Holocene Epo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3" descr="25_T01_GeologicRecord-L.jpg"/>
          <p:cNvPicPr/>
          <p:nvPr/>
        </p:nvPicPr>
        <p:blipFill>
          <a:blip r:embed="rId1"/>
          <a:stretch/>
        </p:blipFill>
        <p:spPr>
          <a:xfrm>
            <a:off x="3741840" y="76320"/>
            <a:ext cx="540216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25_07EarthHistoryClock_3-L.jpg"/>
          <p:cNvPicPr/>
          <p:nvPr/>
        </p:nvPicPr>
        <p:blipFill>
          <a:blip r:embed="rId1"/>
          <a:stretch/>
        </p:blipFill>
        <p:spPr>
          <a:xfrm>
            <a:off x="2895480" y="985680"/>
            <a:ext cx="5892840" cy="5186520"/>
          </a:xfrm>
          <a:prstGeom prst="rect">
            <a:avLst/>
          </a:prstGeom>
          <a:ln w="0">
            <a:noFill/>
          </a:ln>
        </p:spPr>
      </p:pic>
      <p:pic>
        <p:nvPicPr>
          <p:cNvPr id="271" name="Diagram 3" descr=""/>
          <p:cNvPicPr/>
          <p:nvPr/>
        </p:nvPicPr>
        <p:blipFill>
          <a:blip r:embed="rId2"/>
          <a:stretch/>
        </p:blipFill>
        <p:spPr>
          <a:xfrm>
            <a:off x="268200" y="762120"/>
            <a:ext cx="295128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rebuchet MS"/>
              </a:rPr>
              <a:t>Key Events in Life’s Histor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3" name="Picture 2" descr="25_UN08Summary_C3-L.jpg"/>
          <p:cNvPicPr/>
          <p:nvPr/>
        </p:nvPicPr>
        <p:blipFill>
          <a:blip r:embed="rId1"/>
          <a:stretch/>
        </p:blipFill>
        <p:spPr>
          <a:xfrm>
            <a:off x="0" y="1638360"/>
            <a:ext cx="9096480" cy="4457520"/>
          </a:xfrm>
          <a:prstGeom prst="rect">
            <a:avLst/>
          </a:prstGeom>
          <a:ln w="0">
            <a:noFill/>
          </a:ln>
        </p:spPr>
      </p:pic>
      <p:sp>
        <p:nvSpPr>
          <p:cNvPr id="274" name="Oval 3"/>
          <p:cNvSpPr/>
          <p:nvPr/>
        </p:nvSpPr>
        <p:spPr>
          <a:xfrm>
            <a:off x="1066680" y="1371600"/>
            <a:ext cx="2133720" cy="2133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"/>
          <p:cNvSpPr/>
          <p:nvPr/>
        </p:nvSpPr>
        <p:spPr>
          <a:xfrm>
            <a:off x="3733920" y="1600200"/>
            <a:ext cx="2133360" cy="2133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loud 5"/>
          <p:cNvSpPr/>
          <p:nvPr/>
        </p:nvSpPr>
        <p:spPr>
          <a:xfrm>
            <a:off x="1447920" y="4876920"/>
            <a:ext cx="3200400" cy="1523880"/>
          </a:xfrm>
          <a:prstGeom prst="pie">
            <a:avLst/>
          </a:prstGeom>
          <a:noFill/>
          <a:ln w="28440">
            <a:solidFill>
              <a:srgbClr val="53548a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accumulates in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2.7 by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Up Arrow 6"/>
          <p:cNvSpPr/>
          <p:nvPr/>
        </p:nvSpPr>
        <p:spPr>
          <a:xfrm>
            <a:off x="2971800" y="3809880"/>
            <a:ext cx="228600" cy="1143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Up Arrow 7"/>
          <p:cNvSpPr/>
          <p:nvPr/>
        </p:nvSpPr>
        <p:spPr>
          <a:xfrm>
            <a:off x="8381880" y="3962520"/>
            <a:ext cx="228600" cy="106668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7772400" y="5029200"/>
            <a:ext cx="129528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20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638680" y="1523880"/>
            <a:ext cx="1905120" cy="1905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7315200" y="1447920"/>
            <a:ext cx="1752480" cy="175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dosymbiont Theo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3123720"/>
            <a:ext cx="830592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ochondria &amp; plastids (chloroplasts) formed from small prokaryotes living in larger cel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lication by binary fiss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ingle, circular DNA (no histone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ibosomes to make protei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nzymes similar to living prokaryot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wo membran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84" name="Picture 2" descr="http://microbewiki.kenyon.edu/images/thumb/2/25/Mitochondria.gif/400px-Mitochondria.gif"/>
          <p:cNvPicPr/>
          <p:nvPr/>
        </p:nvPicPr>
        <p:blipFill>
          <a:blip r:embed="rId1"/>
          <a:stretch/>
        </p:blipFill>
        <p:spPr>
          <a:xfrm>
            <a:off x="5715000" y="1066680"/>
            <a:ext cx="2438280" cy="1895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http://1.bp.blogspot.com/-2WtjyRjhLRs/TbQicIlj20I/AAAAAAAAADU/z3wTnj5fSpo/s1600/chloroplasts.jpg"/>
          <p:cNvPicPr/>
          <p:nvPr/>
        </p:nvPicPr>
        <p:blipFill>
          <a:blip r:embed="rId2"/>
          <a:stretch/>
        </p:blipFill>
        <p:spPr>
          <a:xfrm>
            <a:off x="1295280" y="1219320"/>
            <a:ext cx="32767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28"/>
          <p:cNvSpPr/>
          <p:nvPr/>
        </p:nvSpPr>
        <p:spPr>
          <a:xfrm>
            <a:off x="3886200" y="1981080"/>
            <a:ext cx="5029200" cy="2940120"/>
          </a:xfrm>
          <a:prstGeom prst="roundRect">
            <a:avLst>
              <a:gd name="adj" fmla="val 16667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Pangaea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= Super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rmed 250 m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Continental drift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explains many biogeographic puzz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0" descr="25_14_ContinentalDrift-L.jpg"/>
          <p:cNvPicPr/>
          <p:nvPr/>
        </p:nvPicPr>
        <p:blipFill>
          <a:blip r:embed="rId1"/>
          <a:stretch/>
        </p:blipFill>
        <p:spPr>
          <a:xfrm>
            <a:off x="380880" y="122400"/>
            <a:ext cx="3078360" cy="6583320"/>
          </a:xfrm>
          <a:prstGeom prst="rect">
            <a:avLst/>
          </a:prstGeom>
          <a:ln w="0">
            <a:noFill/>
          </a:ln>
        </p:spPr>
      </p:pic>
      <p:sp>
        <p:nvSpPr>
          <p:cNvPr id="288" name="Left Arrow 29"/>
          <p:cNvSpPr/>
          <p:nvPr/>
        </p:nvSpPr>
        <p:spPr>
          <a:xfrm rot="19037400">
            <a:off x="2335320" y="4484160"/>
            <a:ext cx="1752480" cy="3812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Movement of continental plates change geography and climate of Earth </a:t>
            </a:r>
            <a:r>
              <a:rPr b="0" lang="en-US" sz="2800" spc="-1" strike="noStrike">
                <a:solidFill>
                  <a:srgbClr val="42445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 Extinctions and speciation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0" name="Picture 4" descr="25_13TectonicPlates-L.jpg"/>
          <p:cNvPicPr/>
          <p:nvPr/>
        </p:nvPicPr>
        <p:blipFill>
          <a:blip r:embed="rId1"/>
          <a:stretch/>
        </p:blipFill>
        <p:spPr>
          <a:xfrm>
            <a:off x="304920" y="1600200"/>
            <a:ext cx="8547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apter 25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The History of Life on Ear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1" descr="25_01AntarcticSceneDinos-L.jpg"/>
          <p:cNvPicPr/>
          <p:nvPr/>
        </p:nvPicPr>
        <p:blipFill>
          <a:blip r:embed="rId1"/>
          <a:stretch/>
        </p:blipFill>
        <p:spPr>
          <a:xfrm>
            <a:off x="4343400" y="228600"/>
            <a:ext cx="44766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rebuchet MS"/>
              </a:rPr>
              <a:t>Mass extinctions </a:t>
            </a:r>
            <a:r>
              <a:rPr b="1" lang="en-US" sz="36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b050"/>
                </a:solidFill>
                <a:latin typeface="Trebuchet MS"/>
              </a:rPr>
              <a:t> Diversity of life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53341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jor periods in Earth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 histo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ith </a:t>
            </a:r>
            <a:r>
              <a:rPr b="0" i="1" lang="en-US" sz="2800" spc="-1" strike="noStrike">
                <a:solidFill>
                  <a:srgbClr val="7030a0"/>
                </a:solidFill>
                <a:latin typeface="Georgia"/>
              </a:rPr>
              <a:t>mass extincti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nd new on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begi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ith </a:t>
            </a:r>
            <a:r>
              <a:rPr b="0" i="1" lang="en-US" sz="2800" spc="-1" strike="noStrike">
                <a:solidFill>
                  <a:srgbClr val="0070c0"/>
                </a:solidFill>
                <a:latin typeface="Georgia"/>
              </a:rPr>
              <a:t>adaptive radi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3" name="Picture 3" descr="25_15MassExtinctionDiv-L.jpg"/>
          <p:cNvPicPr/>
          <p:nvPr/>
        </p:nvPicPr>
        <p:blipFill>
          <a:blip r:embed="rId1"/>
          <a:stretch/>
        </p:blipFill>
        <p:spPr>
          <a:xfrm>
            <a:off x="1600200" y="914400"/>
            <a:ext cx="56656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jor events during each Er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recambria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microscopic fossils (stromatolit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hotosynthesis, atmospheric O</a:t>
            </a:r>
            <a:r>
              <a:rPr b="0" lang="en-US" sz="24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ukaryotes (endosymbiont theor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aleozo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400" spc="-1" strike="noStrike">
                <a:solidFill>
                  <a:srgbClr val="406f8d"/>
                </a:solidFill>
                <a:latin typeface="Georgia"/>
              </a:rPr>
              <a:t>Cambrian Explos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lants invade land, many animals appea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ermian Extinction (-96% species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Mesozo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ge of Reptiles”, dinosaur, pla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Formation of Pangaea supercontinen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retaceous Extinction – asteroid off Mexico</a:t>
            </a:r>
            <a:r>
              <a:rPr b="0" lang="ja-JP" sz="24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 coas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Cenozo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Prim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6" name="Title 1"/>
          <p:cNvGrpSpPr/>
          <p:nvPr/>
        </p:nvGrpSpPr>
        <p:grpSpPr>
          <a:xfrm>
            <a:off x="438120" y="5522760"/>
            <a:ext cx="8467920" cy="1195560"/>
            <a:chOff x="438120" y="5522760"/>
            <a:chExt cx="8467920" cy="1195560"/>
          </a:xfrm>
        </p:grpSpPr>
        <p:pic>
          <p:nvPicPr>
            <p:cNvPr id="297" name="Title 1" descr=""/>
            <p:cNvPicPr/>
            <p:nvPr/>
          </p:nvPicPr>
          <p:blipFill>
            <a:blip r:embed="rId1"/>
            <a:stretch/>
          </p:blipFill>
          <p:spPr>
            <a:xfrm>
              <a:off x="438120" y="5522760"/>
              <a:ext cx="84679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28560" y="5657760"/>
              <a:ext cx="803916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Note: All </a:t>
              </a:r>
              <a:r>
                <a:rPr b="0" lang="en-US" sz="2800" spc="-1" strike="noStrike" u="sng">
                  <a:solidFill>
                    <a:srgbClr val="ffffff"/>
                  </a:solidFill>
                  <a:uFillTx/>
                  <a:latin typeface="Trebuchet MS"/>
                </a:rPr>
                <a:t>end</a:t>
              </a: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 with </a:t>
              </a: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major extinction </a:t>
              </a: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&amp; </a:t>
              </a:r>
              <a:r>
                <a:rPr b="0" lang="en-US" sz="2800" spc="-1" strike="noStrike" u="sng">
                  <a:solidFill>
                    <a:srgbClr val="ffffff"/>
                  </a:solidFill>
                  <a:uFillTx/>
                  <a:latin typeface="Trebuchet MS"/>
                </a:rPr>
                <a:t>start</a:t>
              </a: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 with </a:t>
              </a: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adaptive radi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Discovery Video: Mass Exti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0" descr="25_25aStickleback-L.jpg"/>
          <p:cNvPicPr/>
          <p:nvPr/>
        </p:nvPicPr>
        <p:blipFill>
          <a:blip r:embed="rId1"/>
          <a:stretch/>
        </p:blipFill>
        <p:spPr>
          <a:xfrm>
            <a:off x="3505320" y="3200400"/>
            <a:ext cx="2438280" cy="21128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904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olution of new forms results from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Georgia"/>
              </a:rPr>
              <a:t>changes in DN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Georgia"/>
              </a:rPr>
              <a:t>regulation of developmental ge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3" name="Picture 8" descr="25_25cStickleback-L.jpg"/>
          <p:cNvPicPr/>
          <p:nvPr/>
        </p:nvPicPr>
        <p:blipFill>
          <a:blip r:embed="rId2"/>
          <a:stretch/>
        </p:blipFill>
        <p:spPr>
          <a:xfrm>
            <a:off x="0" y="4159080"/>
            <a:ext cx="3338640" cy="2698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25_25dStickleback-L.jpg"/>
          <p:cNvPicPr/>
          <p:nvPr/>
        </p:nvPicPr>
        <p:blipFill>
          <a:blip r:embed="rId3"/>
          <a:stretch/>
        </p:blipFill>
        <p:spPr>
          <a:xfrm>
            <a:off x="5869080" y="3897360"/>
            <a:ext cx="3274920" cy="29606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rebuchet MS"/>
              </a:rPr>
              <a:t>Evo-Devo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evolutionary + developmental biology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04560" y="7617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Georgia"/>
              </a:rPr>
              <a:t>Heterochro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evolutionary change in rate of developmental ev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Picture 3" descr="25_21bRelativeGrowth-L.jpg"/>
          <p:cNvPicPr/>
          <p:nvPr/>
        </p:nvPicPr>
        <p:blipFill>
          <a:blip r:embed="rId1"/>
          <a:stretch/>
        </p:blipFill>
        <p:spPr>
          <a:xfrm>
            <a:off x="685800" y="1981080"/>
            <a:ext cx="3695760" cy="3657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25_22Paedomorphosis-L.jpg"/>
          <p:cNvPicPr/>
          <p:nvPr/>
        </p:nvPicPr>
        <p:blipFill>
          <a:blip r:embed="rId2"/>
          <a:stretch/>
        </p:blipFill>
        <p:spPr>
          <a:xfrm>
            <a:off x="4876920" y="2057400"/>
            <a:ext cx="3733560" cy="26049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5"/>
          <p:cNvSpPr/>
          <p:nvPr/>
        </p:nvSpPr>
        <p:spPr>
          <a:xfrm>
            <a:off x="4800600" y="4724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83a7a"/>
                </a:solidFill>
                <a:uFillTx/>
                <a:latin typeface="Arial"/>
              </a:rPr>
              <a:t>Paedomorph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ult retains juvenile structures in ancestra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685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83a7a"/>
                </a:solidFill>
                <a:uFillTx/>
                <a:latin typeface="Georgia"/>
              </a:rPr>
              <a:t>Homeotic gen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master regulatory genes determine location and organization of body par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g. </a:t>
            </a:r>
            <a:r>
              <a:rPr b="1" lang="en-US" sz="2800" spc="-1" strike="noStrike">
                <a:solidFill>
                  <a:srgbClr val="783a7a"/>
                </a:solidFill>
                <a:latin typeface="Georgia"/>
              </a:rPr>
              <a:t>Hox ge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3" descr="25_23_HoxLimbDevelop-L.jpg"/>
          <p:cNvPicPr/>
          <p:nvPr/>
        </p:nvPicPr>
        <p:blipFill>
          <a:blip r:embed="rId1"/>
          <a:stretch/>
        </p:blipFill>
        <p:spPr>
          <a:xfrm>
            <a:off x="228600" y="2895480"/>
            <a:ext cx="3809880" cy="27529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304920" y="5638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340"/>
                </a:solidFill>
                <a:latin typeface="Arial"/>
              </a:rPr>
              <a:t>Hox gene expression and limb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25_24InsectBodyOrigin-L.jpg"/>
          <p:cNvPicPr/>
          <p:nvPr/>
        </p:nvPicPr>
        <p:blipFill>
          <a:blip r:embed="rId2"/>
          <a:stretch/>
        </p:blipFill>
        <p:spPr>
          <a:xfrm>
            <a:off x="4419720" y="3657600"/>
            <a:ext cx="4376520" cy="28083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6"/>
          <p:cNvSpPr/>
          <p:nvPr/>
        </p:nvSpPr>
        <p:spPr>
          <a:xfrm>
            <a:off x="4419720" y="2666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olution of Hox genes changes the insect body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99036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80"/>
                </a:solidFill>
                <a:uFillTx/>
                <a:latin typeface="Georgia"/>
              </a:rPr>
              <a:t>Exaptati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structures that evolve but become co-opted for another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Eg. bird feathers = thermoregulation </a:t>
            </a:r>
            <a:r>
              <a:rPr b="0" lang="en-US" sz="28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 flight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16" name="Picture 2" descr="Archaeopteryx"/>
          <p:cNvPicPr/>
          <p:nvPr/>
        </p:nvPicPr>
        <p:blipFill>
          <a:blip r:embed="rId1"/>
          <a:stretch/>
        </p:blipFill>
        <p:spPr>
          <a:xfrm>
            <a:off x="762120" y="3068640"/>
            <a:ext cx="3809880" cy="3301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Similicaudipterx"/>
          <p:cNvPicPr/>
          <p:nvPr/>
        </p:nvPicPr>
        <p:blipFill>
          <a:blip r:embed="rId2"/>
          <a:stretch/>
        </p:blipFill>
        <p:spPr>
          <a:xfrm>
            <a:off x="4952880" y="32004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you need to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1371240"/>
            <a:ext cx="9144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cientific hypothesis about the origin of life on Eart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ge of the Earth and when prokaryotic and eukaryotic life emerg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aracteristics of the early planet and its atmospher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Miller &amp; Urey tested the Oparin-Haldane hypothesis and what they learn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thods used to date fossils and rocks and how fossil evidence contributes to our understanding of changes in life on Eart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idence for endosymbios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continental drift can explain the current distribution of speci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extinction events open habitats that may result in adaptive radi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44000" cy="5018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arly conditions on Eart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covery Video: Early Lif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6840" y="762120"/>
            <a:ext cx="84582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 = 4.6 billion years ol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rst life forms appeared ~3.8 billion years ag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How did life aris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organic molecules were synthesiz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molecul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acromolecules (proteins, nucleic acid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ckaged into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protocells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membrane-containing droplet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lf-replicating molecules allow for inherit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33640" indent="-4935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NA World”: 1st genetic material most likely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RNA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33640" indent="-4935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First catalysts =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ribozymes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(RNA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Synthesis of Organic Compounds on Early Earth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2057400"/>
            <a:ext cx="510552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Oparin &amp; Halda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Early atmosphere = H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O vapor, N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, CO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, H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, H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S methane, ammonia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Energy =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lightning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 &amp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UV radi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Conditions favored synthesis of organic compounds - a “primitive soup”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1" name="Picture 3" descr="25_02bSimulatedVolcanic-L.jpg"/>
          <p:cNvPicPr/>
          <p:nvPr/>
        </p:nvPicPr>
        <p:blipFill>
          <a:blip r:embed="rId1"/>
          <a:stretch/>
        </p:blipFill>
        <p:spPr>
          <a:xfrm>
            <a:off x="5456160" y="1447920"/>
            <a:ext cx="3459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560" y="533160"/>
            <a:ext cx="5257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Miller &amp; Ur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sted Oparin-Haldane hypothe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mulated conditions in la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ed amino aci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3089160" cy="4945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8102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rebuchet MS"/>
              </a:rPr>
              <a:t>Protocells &amp; Self-Replicating RNA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3" descr="25_03bAbioticVesicles-L.jpg"/>
          <p:cNvPicPr/>
          <p:nvPr/>
        </p:nvPicPr>
        <p:blipFill>
          <a:blip r:embed="rId1"/>
          <a:stretch/>
        </p:blipFill>
        <p:spPr>
          <a:xfrm>
            <a:off x="838080" y="1828800"/>
            <a:ext cx="3753000" cy="4614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25_03cAbioticVesicles-L.jpg"/>
          <p:cNvPicPr/>
          <p:nvPr/>
        </p:nvPicPr>
        <p:blipFill>
          <a:blip r:embed="rId2"/>
          <a:stretch/>
        </p:blipFill>
        <p:spPr>
          <a:xfrm>
            <a:off x="5029200" y="1828800"/>
            <a:ext cx="32828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38:16Z</dcterms:created>
  <dc:creator>Chris Nancy Chou</dc:creator>
  <dc:description/>
  <dc:language>en-US</dc:language>
  <cp:lastModifiedBy>Chris Nancy Chou</cp:lastModifiedBy>
  <cp:lastPrinted>2012-02-23T00:38:16Z</cp:lastPrinted>
  <dcterms:modified xsi:type="dcterms:W3CDTF">2014-02-21T06:26:49Z</dcterms:modified>
  <cp:revision>63</cp:revision>
  <dc:subject/>
  <dc:title>Chapter 23</dc:title>
</cp:coreProperties>
</file>